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8CAD-EA7F-48DA-A6F6-C8A79E1472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Название проекта:</a:t>
            </a:r>
            <a:br>
              <a:rPr sz="1200"/>
            </a:b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родолжение проекта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храны здоровья дете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щеобразовательной шко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 программе дополнительной профессиональной квал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Руковод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ицкая Ирина Леонид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м.н., доц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83C7-66A5-4AB3-9B6D-08C9C675EB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нновационный потенциал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новой дисциплины «Основы медицинских знаний и охраны здоровья детей» для работы в общеобразовательной школе по программе дополнительной профессиональ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принципиально новых учебно-методических материалов, направленных на приобретение необходимых знаний и умений, позволяющих обеспечить, пропаганду здорового образа жизни школьников, создающих условия для нормального роста и развития подрастающего поко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4153-F1BC-42B0-8383-2BB9C8F4FF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Каким специальностям и направлениям подготовки соответствует 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рассчитан на студентов ЮФУ (РГУ), получающих специальность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общеобразовательной школы осуществляется по программ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полнительной профессиональ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57BA-8E2F-43A8-BBA2-2257B95DE6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бщее число исполн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человек (10 преподавателей и 3 лаборанта, из них 2 доцента, 4 кандидата медицинских наук, сотрудников без ученой степени -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5F9D-0CBE-41EC-85F9-2EEB4D9E76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роект с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ая рабо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1) – 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10) - 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2) – 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7) – 4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2) – 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7) – 4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(1) – 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 (10) – 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- 80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ого: 356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C3A3-3945-4C83-A380-B15B6FD9B5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РОЕКТ С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обору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техника (сканер, цветной принтер) -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компьютерного класса – 5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монт учебных классов – 1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демонстрационной учебной базы (муляжей,  мед. инструментария) – 5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работы с интерактивной доской, мультимедийным оборудованием - 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ировки в ведущие учебные заведения РФ по обмену опытом (СПбГПУ) – 3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о: 197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3CEC-D63D-4ABD-87A4-A19780F4B0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Оборудование, необходимое для реализации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йное презентацион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тех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компьютерного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демонстрационной учебной базы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0B78-FC14-47DC-BF47-AD47A18CBE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ммерческая перспектив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обучающихся на коммерческой основе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презентаций (создание сайта) с целью привлечения слушателей из других подразделений ЮФУ, ВУЗв РО, ЮФО для приобретения дополнительной профессиональной квалификации по специальности «преподаватель основ медицинских знаний и охраны здоровья детей»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учебно-методической литературы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2A0F-2571-4290-91E5-0692DE082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аличие потенциального заказ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азчик: Управление образования г. Ростова-на-Дон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: письмо от 20.12.2007 г. Управления образования г. Ростова-на-Дону о чрезвычайной актуальности подготовки преподавателей дисциплины «Основы медицинских знаний и охраны здоровья детей» для работы в общеобразовательных школах (с выдачей соответствующего удостове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52CA-D8D3-416F-981B-E1CE210CF9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еречень объектов интеллектуаль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E8D2-78E9-4BAA-9835-7AD987432C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ланируемая в 2008-2009г. реализация результатов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общеобразовательной школы по программе дополнительной профессиональной квалификации с выдачей соответствующего удостов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слушателей на коммерческ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презентаций (создание сайта) с целью привлечения слушателей других подразделений ЮФУ, ВУЗов РО, ЮФО, для приобретения дополнительной профессиональной квалификации по специальности «преподаватель основ медицинских знаний и охраны здоровья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учебн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478C-19C7-4664-B062-88E91387A0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Организация </a:t>
            </a:r>
            <a:br>
              <a:rPr sz="1600"/>
            </a:b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– головной исполн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Основы медицински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защиты насе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резвычайной обстановк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о-почвенного факульте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ого федераль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F4DA-62C2-40EE-A79E-BA0EA12F21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ерспективное 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является продолжением заявки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читан на период до 201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2007г. начато формирование учебно-методической базы (УМК, программа курса, 2 учебника, 7 учебно-методических пособий, презентация лекционного кур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тудентов по программе проводится с 1992г.(с 2005г. отменена выдача удостоверений о прослушанном курс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A4C1-D9FE-4F36-B7F5-D7C450A72F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Тип про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ет приоритетному направлению по охране здоровья населения РФ в свете Национального проекта «Здоровье нации» и «Образова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 для ЮФУ: проект по созданию департамента би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стью соответствует требованиям, предъявляемым к разрабатываемым проектам и учебной литературе для высших учебных заве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1F12-DEF3-4274-A83C-6F1EC44BFA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Задел про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с 1993 года 52 учебно-методических пособия, 2 учебника, 7 научных тезисов для участия в региональных и международных конференциях, разработаны курсы лекций по всем разделам УМК, тестовый контроль  зн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УМК и программа по курсу «Основы медицинских знаний и охраны здоровья дет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лены к публикац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 учебники: «Возрастные особенности жизни женщины», «Первая медицинская помощь при основных хирургических заболеваниях и травмах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: «Организация учебного процесса и физическое воспитание школьников», «Питание школьников», «Подготовка и адаптация детей к началу обучения в школе», «Гепатиты», «Вегето-сосудистая дистония» 2 части, «Лихорадка, причины, первая помощь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урса «Основы медицинских знаний и охраны здоровья детей»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307F-0686-464C-9124-53CBFD16EF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Цель и задачи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готовка преподавателей дисциплины «Осно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х знаний и охраны здоровья детей» для рабо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щеобразовательных школах (по программе дополнительной профессиональной квалифик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 Подготовка учебно-методической базы кур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одготовка к публикации учебников по основным разделам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8 разделов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издание учебно-методических пособий по наиболее актуальн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м учебного кур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одготовка презентационных программ по лекционному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одготовка базы современных литературных источников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я электронных учебных пособ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создание сайта с целью внешнего привлечения слуша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) с 2009г. набор студентов для обучения на коммерческих услов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10D3-5BA1-4E3E-8B0F-DF2D9F82BA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Актуальность и значим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вычайно актуальной представляется проблема сохранения здоровья детей и подростков как наиболее уязвимых к стрессорным воздействиям в силу несовершенства адаптационных механиз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ных направлениях реформы общеобразовательной школы сказано: «Необходимо, чтобы каждый школьник овладел минимумом знаний в области гигиены и медицины, смолоду знал свой организм и умел поддерживать его в порядке»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руководителей СОШ признает необходимость пропаганды здорового образа жизни школьников при отсутствии подготовленных педагогических ка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е образовательные школьные программы по данной теме ведутся по исключительно по инициативе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Целью рабо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вляется углубленная разработка разделов курса «Основ медицинских знаний и охраны здоровья детей» по охране здоровья ребенка, применение здоровьесберегающих технологий, пропаганда здорового образа жизни школь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B9A8-5116-4775-BFB6-6BF87CD338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Научная и методическая новиз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ный курс не имеет аналогов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требованиям, предъявляемым к современной высшей шк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будет способствовать улучшению качества жизни и здоровья школьников, и населения РФ в це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33E2-C942-4F22-AA5A-A19955F45E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жидаемые результ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учебно-методической баз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по основным разделам УМК (8 разде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по наиболее актуальным проблемам дисциплины (не менее 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зентационных материалов к лекционному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ние курса лекций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системы тестового контроля знаний (промежуточного и конечног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работы общеобразовательной школе (по программе дополнительной профессиональной квал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C9FC-917D-4EA7-9F02-4663672988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4C60-D391-480D-9F81-DEAD1016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C90F-C44E-4BFC-950C-25D98E56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F94-C3AA-4FBD-85B8-ECB4D6C7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3D4-C604-4826-9047-041DA32B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969-CAD8-482B-919D-5716E0F6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F5B-8BF8-45C6-A593-1FC887B8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99D-6F63-44AF-84A3-BDB0AE4A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AAD-8FEF-4F82-AB9D-B3D9A132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3DF-7798-4C80-A691-A9A3AD08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D08-81CF-4FD8-B958-41B2E6D3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3B5-AAC0-4A7F-B51C-9DA09C2E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90F-7BE0-4618-B15B-EF8EC170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E661-6221-4392-BDD8-1FB9B459874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звание проекта:</a:t>
            </a:r>
            <a:br>
              <a:rPr sz="2900"/>
            </a:br>
            <a:r>
              <a:rPr b="0" lang="ru-RU" sz="2900" spc="-1" strike="noStrike">
                <a:solidFill>
                  <a:srgbClr val="ff3300"/>
                </a:solidFill>
                <a:latin typeface="Calibri"/>
              </a:rPr>
              <a:t>продолжение проекта 2007 г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охраны здоровья детей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общеобразовательной школ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по программе дополнительной профессиональной квалификаци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300"/>
                </a:solidFill>
                <a:latin typeface="Calibri"/>
              </a:rPr>
              <a:t>Руководитель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ницкая Ирина Леонид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.м.н., доцен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Инновационный потенциал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преподавателей новой дисциплины «Основы медицинских знаний и охраны здоровья детей» для работы в общеобразовательной школе по программе дополнительной профессиональной квалифик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принципиально новых учебно-методических материалов, направленных на приобретение необходимых знаний и умений, позволяющих обеспечить, пропаганду здорового образа жизни школьников, создающих условия для нормального роста и развития подрастающего покол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Каким специальностям и направлениям подготовки соответствует прое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рассчитан на студентов ЮФУ (РГУ), получающих специальность «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еподават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общеобразовательной школы осуществляется по программ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ополнительной профессиональной квалиф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Общее число исполн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1680" y="2435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3 человек (10 преподавателей и 3 лаборанта, из них 2 доцента, 4 кандидата медицинских наук, сотрудников без ученой степени - 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Проект см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685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ая рабо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1) – 2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10) - 6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2) – 4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7) – 42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2) – 4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7) – 42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 (1) – 2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 (10) – 6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- 8000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того: 3560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ЕКТ СМ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ретение оборуд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техника (сканер, цветной принтер) - 1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орудование компьютерного класса – 5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монт учебных классов – 10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новление демонстрационной учебной базы (муляжей,  мед. инструментария) – 5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 работы с интерактивной доской, мультимедийным оборудованием - 2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андировки в ведущие учебные заведения РФ по обмену опытом (СПбГПУ) – 3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ого: 197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Оборудование, необходимое для реализации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льтимедийное презентационное обеспе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тех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ащение компьютерного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новление демонстрационной учебной базы по кур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Коммерческая перспектива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1680" y="23587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обучающихся на коммерческой основе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резентаций (создание сайта) с целью привлечения слушателей из других подразделений ЮФУ, ВУЗв РО, ЮФО для приобретения дополнительной профессиональной квалификации по специальности «преподаватель основ медицинских знаний и охраны здоровья детей»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учебно-методической литературы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личие потенциального заказч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1680" y="20541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азчик: Управление образования г. Ростова-на-Дон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ание: письмо от 20.12.2007 г. Управления образования г. Ростова-на-Дону о чрезвычайной актуальности подготовки преподавателей дисциплины «Основы медицинских знаний и охраны здоровья детей» для работы в общеобразовательных школах (с выдачей соответствующего удостовере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Перечень объектов интеллектуально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собств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09480" y="164448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ные УМК и программа по курсу «Основы медицинских знаний и охраны здоровья дете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ный лекционный кур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рограмме УМ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ебни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-методические пособия по основным разделам програ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и по курсу «Основы медицинских знаний и охраны здоровья дете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тестового контроля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Планируемая в 2008-2009г. реализация результато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общеобразовательной школы по программе дополнительной профессиональной квалификации с выдачей соответствующего удостове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слушателей на коммерческой осн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резентаций (создание сайта) с целью привлечения слушателей других подразделений ЮФУ, ВУЗов РО, ЮФО, для приобретения дополнительной профессиональной квалификации по специальности «преподаватель основ медицинских знаний и охраны здоровья дет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учебной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Организация 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– головной исполнит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22827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федра «Основы медицинских зн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защиты насел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резвычайной обстановк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олого-почвенного факульте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жного федерального универс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рспективное пла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ект является продолжением заявки 2007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читан на период до 2010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 2007г. начато формирование учебно-методической базы (УМК, программа курса, 2 учебника, 7 учебно-методических пособий, презентация лекционного кур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учение студентов по программе проводится с 1992г.(с 2005г. отменена выдача удостоверений о прослушанном курс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Тип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ветствует приоритетному направлению по охране здоровья населения РФ в свете Национального проекта «Здоровье нации» и «Образова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авление  для ЮФУ: проект по созданию департамента би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ностью соответствует требованиям, предъявляемым к разрабатываемым проектам и учебной литературе для высших учебных завед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Задел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476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публикованы с 1993 года 52 учебно-методических пособия, 2 учебника, 7 научных тезисов для участия в региональных и международных конференциях, разработаны курсы лекций по всем разделам УМК, тестовый контроль  знаний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зработан УМК и программа по курсу «Основы медицинских знаний и охраны здоровья детей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дготовлены к публикации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-    учебники: «Возрастные особенности жизни женщины», «Первая медицинская помощь при основных хирургических заболеваниях и травмах»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чебно-методические пособия: «Организация учебного процесса и физическое воспитание школьников», «Питание школьников», «Подготовка и адаптация детей к началу обучения в школе», «Гепатиты», «Вегето-сосудистая дистония» 2 части, «Лихорадка, причины, первая помощь»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езентация курса «Основы медицинских знаний и охраны здоровья детей»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Цель и задач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168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Цель: подготовка преподавателей дисциплины «Основ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едицинских знаний и охраны здоровья детей» для работ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общеобразовательных школах (по программе дополнительной профессиональной квалификации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Задачи: Подготовка учебно-методической базы курса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а) подготовка к публикации учебников по основным разделам курс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(8 разделов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б) издание учебно-методических пособий по наиболее актуальным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облемам учебного курс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) подготовка презентационных программ по лекционному курсу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г) подготовка базы современных литературных источников для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ормирования электронных учебных пособи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) создание сайта с целью внешнего привлечения слушателе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е) с 2009г. набор студентов для обучения на коммерческих условиях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Актуальность и значимос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1680" y="1292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резвычайно актуальной представляется проблема сохранения здоровья детей и подростков как наиболее уязвимых к стрессорным воздействиям в силу несовершенства адаптационных механизм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сновных направлениях реформы общеобразовательной школы сказано: «Необходимо, чтобы каждый школьник овладел минимумом знаний в области гигиены и медицины, смолоду знал свой организм и умел поддерживать его в порядке»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инство руководителей СОШ признает необходимость пропаганды здорового образа жизни школьников при отсутствии подготовленных педагогических кад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ельные образовательные школьные программы по данной теме ведутся по исключительно по инициативе педаг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Целью рабо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является углубленная разработка разделов курса «Основ медицинских знаний и охраны здоровья детей» по охране здоровья ребенка, применение здоровьесберегающих технологий, пропаганда здорового образа жизни школь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учная и методическая новиз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1680" y="19810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нный курс не имеет аналогов 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чает требованиям, предъявляемым к современной высшей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рс будет способствовать улучшению качества жизни и здоровья школьников, и населения РФ в цел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учебно-методической баз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ики по основным разделам УМК (8 разделов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о-методические пособия по наиболее актуальным проблемам дисциплины (не менее 3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презентационных материалов к лекционному курс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дание курса лекций по дисципл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системы тестового контроля знаний (промежуточного и конечного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работы общеобразовательной школе (по программе дополнительной профессиональной квалификации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RomaK</cp:lastModifiedBy>
  <dcterms:modified xsi:type="dcterms:W3CDTF">2014-10-31T13:27:10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